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ct" ContentType="image/x-pict"/>
  <Override PartName="/ppt/media/image8.pct" ContentType="image/x-pict"/>
  <Override PartName="/ppt/media/image17.pct" ContentType="image/x-pict"/>
  <Override PartName="/ppt/media/image14.jpeg" ContentType="image/jpeg"/>
  <Override PartName="/ppt/media/image16.pct" ContentType="image/x-pict"/>
  <Override PartName="/ppt/media/image3.jpeg" ContentType="image/jpeg"/>
  <Override PartName="/ppt/media/image15.pct" ContentType="image/x-pict"/>
  <Override PartName="/ppt/media/image1.jpeg" ContentType="image/jpeg"/>
  <Override PartName="/ppt/media/image4.pct" ContentType="image/x-pict"/>
  <Override PartName="/ppt/media/image2.jpeg" ContentType="image/jpeg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1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0ACA-2A8D-4AC8-9DD3-DC6F47CFF4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uestion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i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c tac t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 all ideas ro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I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scale of 1-5, how curious are you about the term?  Scale on the w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you should consider thi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work it will save you in the long r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716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92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854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0716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92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85440" y="4654080"/>
            <a:ext cx="7162920" cy="41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0716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92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854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0716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92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85440" y="4654080"/>
            <a:ext cx="7162920" cy="41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space.dial.pipex.com/odlqc/las1.htm#Distance%20Learning%20Agreemen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ebquest.org/search/index.php" TargetMode="External"/><Relationship Id="rId3" Type="http://schemas.openxmlformats.org/officeDocument/2006/relationships/hyperlink" Target="http://www.webquest.org/search/index.php" TargetMode="External"/><Relationship Id="rId4" Type="http://schemas.openxmlformats.org/officeDocument/2006/relationships/hyperlink" Target="http://www.webquest.org/search/index.php" TargetMode="External"/><Relationship Id="rId5" Type="http://schemas.openxmlformats.org/officeDocument/2006/relationships/hyperlink" Target="http://www.webquest.org/search/index.php" TargetMode="Externa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56000" y="4800600"/>
            <a:ext cx="658800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Independent Study &amp;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Learning Agreements</a:t>
            </a:r>
            <a:br>
              <a:rPr sz="3200"/>
            </a:br>
            <a:r>
              <a:rPr b="1" lang="uk-UA" sz="2000" spc="-1" strike="noStrike">
                <a:solidFill>
                  <a:srgbClr val="ffffff"/>
                </a:solidFill>
                <a:latin typeface="Arial Narrow"/>
              </a:rPr>
              <a:t>Presented by: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Tracy Doni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46600" y="57150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uesday, 1:00      Friday, 9:0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eryone needs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room Instruction Tha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zano, Pickering, Pollock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Similarities &amp; Differ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izing &amp; Note Ta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inforcing Effort &amp; Providing Recog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&amp;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linguistic Repres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perative Lear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ly Feed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ing &amp; Testing Hypothe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es, Questions, &amp; Advanced Organiz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 whe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opic Development for accelerated or remediate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3331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3314"/>
                </a:solidFill>
                <a:latin typeface="Arial"/>
              </a:rPr>
              <a:t>Readiness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different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333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3314"/>
                </a:solidFill>
                <a:latin typeface="Arial"/>
              </a:rPr>
              <a:t>Comp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333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33314"/>
                </a:solidFill>
                <a:latin typeface="Arial"/>
              </a:rPr>
              <a:t>Accelerated Assig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e &amp; Skill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Guide for learning styles &amp;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 differenti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 when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needs the same </a:t>
            </a: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entry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concept is introduc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idea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group discussion is valu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le group is wrapping up a concept or un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Agre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CIC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3314"/>
                </a:solidFill>
                <a:latin typeface="Arial"/>
              </a:rPr>
              <a:t>Collaboration, Independence, Cooperation,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’s part of the agre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 how to learn what they should le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Agre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’s part of the agreement: </a:t>
            </a: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“CIC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tudy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y KUD &amp; Summative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rify expected behavio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check-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Communication with students &amp;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77120" y="2590920"/>
            <a:ext cx="140976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arning Agree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’s part of the agreement:  </a:t>
            </a: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“CICC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how to le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toward KUD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 expected behavi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check-up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241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should it look like on paper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8756f"/>
                </a:solidFill>
                <a:uFillTx/>
                <a:latin typeface="Arial"/>
                <a:hlinkClick r:id="rId2"/>
              </a:rPr>
              <a:t>Distance Learning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iated Instruction Learn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Direct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 Centere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ontracts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alysis Gri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we keep to create a good learning agre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we not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666880" y="2286000"/>
            <a:ext cx="386100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stig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Orb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raises a question related to, but outside the topic being stud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clarifies KUD that must be covered within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may gather data and present it in any way they prefer as long as KUD is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er must set conference dates &amp; dead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61960" y="61722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tevenson, 1992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stig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has personal interest based on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well when a certain product is the teacher’s go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Review of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 connection to required KU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f-reflection piece for the stud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52480" y="609588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Joyce &amp; Tallman, 199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6272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utilize Topic Development and a Study Guide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obtain high quality work from a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manage differentiated student work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3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vestig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s designed for / on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KU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d for readiness different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8756f"/>
                </a:solidFill>
                <a:uFillTx/>
                <a:latin typeface="Arial"/>
                <a:hlinkClick r:id="rId2"/>
              </a:rPr>
              <a:t>http://www.</a:t>
            </a:r>
            <a:r>
              <a:rPr b="1" lang="en-US" sz="2400" spc="-1" strike="noStrike" u="sng">
                <a:solidFill>
                  <a:srgbClr val="a8756f"/>
                </a:solidFill>
                <a:uFillTx/>
                <a:latin typeface="Arial"/>
                <a:hlinkClick r:id="rId3"/>
              </a:rPr>
              <a:t>webquest</a:t>
            </a:r>
            <a:r>
              <a:rPr b="1" lang="en-US" sz="2400" spc="-1" strike="noStrike" u="sng">
                <a:solidFill>
                  <a:srgbClr val="a8756f"/>
                </a:solidFill>
                <a:uFillTx/>
                <a:latin typeface="Arial"/>
                <a:hlinkClick r:id="rId4"/>
              </a:rPr>
              <a:t>.org/search/index.</a:t>
            </a:r>
            <a:r>
              <a:rPr b="1" lang="en-US" sz="2400" spc="-1" strike="noStrike" u="sng">
                <a:solidFill>
                  <a:srgbClr val="a8756f"/>
                </a:solidFill>
                <a:uFillTx/>
                <a:latin typeface="Arial"/>
                <a:hlinkClick r:id="rId5"/>
              </a:rPr>
              <a:t>ph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809880" y="4114800"/>
            <a:ext cx="1793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uided Research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research ability is not with the class maj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 pacing &amp; material readability lev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KU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 student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/media specia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urce teac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sive classroo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410080" y="3276720"/>
            <a:ext cx="2438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pic Brows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KUD is 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may need a “spa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105520" y="190512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ident Expe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follow up to Topic Browsing sub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a specific number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 an appropriate product choice for sharing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71800" y="4321080"/>
            <a:ext cx="304812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duct Differenti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ed for different learning style being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tive or </a:t>
            </a:r>
            <a:r>
              <a:rPr b="1" lang="en-US" sz="2400" spc="-1" strike="noStrike">
                <a:solidFill>
                  <a:srgbClr val="c33314"/>
                </a:solidFill>
                <a:latin typeface="Arial"/>
              </a:rPr>
              <a:t>form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bric or check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Respectful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333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33314"/>
                </a:solidFill>
                <a:latin typeface="Arial"/>
              </a:rPr>
              <a:t>Open-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019920" y="2514600"/>
            <a:ext cx="2328840" cy="15508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038480" y="4343400"/>
            <a:ext cx="1778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f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41936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s are disrup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s vege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s don’t produce what you have in mi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299736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CC”: Collaboration, Independence, Cooperat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 differentiation in your room on da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expec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rewards/consequ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 examples of 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&amp; follow a time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3331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3314"/>
                </a:solidFill>
                <a:latin typeface="Arial"/>
              </a:rPr>
              <a:t>Anchor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work harder than you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person doing the work is the one growing the dendrites. (Wolfe, 200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627200"/>
            <a:ext cx="4267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utilize Topic Development and a Study Guide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obtain high quality work from a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manage differentiated student work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3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6000" y="4800600"/>
            <a:ext cx="6588000" cy="6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Independent Study &amp;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Learning Agreements</a:t>
            </a:r>
            <a:br>
              <a:rPr sz="3200"/>
            </a:br>
            <a:r>
              <a:rPr b="1" lang="uk-UA" sz="2000" spc="-1" strike="noStrike">
                <a:solidFill>
                  <a:srgbClr val="ffffff"/>
                </a:solidFill>
                <a:latin typeface="Arial Narrow"/>
              </a:rPr>
              <a:t>Presented by:</a:t>
            </a: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 Tracy Doni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6600" y="571500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uesday, 1:00      Friday, 9:0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-assess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40384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ed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y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6200" y="1676520"/>
            <a:ext cx="4419720" cy="35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it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ful task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CC”: Collaboration, Independence, Cooperation,    Communication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-ended task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ent expert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’m Done.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w What Should I Do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ime wisely” = “look bus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ask” mea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ti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 dr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into mischie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o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no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1911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60912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 Don’t Get It.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’m Not Doing It. 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14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ime wisely” = “look busy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ask” mea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d time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y dr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into mischie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o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no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24280" y="2362320"/>
            <a:ext cx="37339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ase for independent stu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429000" y="2438280"/>
          <a:ext cx="1295280" cy="441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438280"/>
                    <a:ext cx="129528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5334120" y="1523880"/>
            <a:ext cx="3227040" cy="761760"/>
            <a:chOff x="5334120" y="1523880"/>
            <a:chExt cx="3227040" cy="761760"/>
          </a:xfrm>
        </p:grpSpPr>
        <p:sp>
          <p:nvSpPr>
            <p:cNvPr id="103" name=""/>
            <p:cNvSpPr/>
            <p:nvPr/>
          </p:nvSpPr>
          <p:spPr>
            <a:xfrm>
              <a:off x="5334480" y="1523880"/>
              <a:ext cx="31190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Times New Roman"/>
                  <a:ea typeface="ＭＳ Ｐゴシック"/>
                </a:rPr>
                <a:t> </a:t>
              </a:r>
              <a:r>
                <a:rPr b="1" lang="en-US" sz="2400" spc="-1" strike="noStrike">
                  <a:solidFill>
                    <a:srgbClr val="4d4d4d"/>
                  </a:solidFill>
                  <a:latin typeface="Times New Roman"/>
                  <a:ea typeface="ＭＳ Ｐゴシック"/>
                </a:rPr>
                <a:t>Academic &amp; Behavior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4120" y="1676520"/>
              <a:ext cx="3227040" cy="60912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88872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1-5%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080" y="325116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10-15%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143000"/>
            <a:ext cx="38102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Pyramid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 of Intervention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3720960"/>
            <a:ext cx="1332000" cy="3137040"/>
          </a:xfrm>
          <a:custGeom>
            <a:avLst/>
            <a:gdLst/>
            <a:ahLst/>
            <a:rect l="l" t="t" r="r" b="b"/>
            <a:pathLst>
              <a:path w="839" h="1976">
                <a:moveTo>
                  <a:pt x="0" y="0"/>
                </a:moveTo>
                <a:lnTo>
                  <a:pt x="253" y="0"/>
                </a:lnTo>
                <a:lnTo>
                  <a:pt x="839" y="1976"/>
                </a:lnTo>
                <a:lnTo>
                  <a:pt x="0" y="197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05200" y="3701880"/>
            <a:ext cx="1352880" cy="3156120"/>
          </a:xfrm>
          <a:custGeom>
            <a:avLst/>
            <a:gdLst/>
            <a:ahLst/>
            <a:rect l="l" t="t" r="r" b="b"/>
            <a:pathLst>
              <a:path w="852" h="1988">
                <a:moveTo>
                  <a:pt x="259" y="0"/>
                </a:moveTo>
                <a:lnTo>
                  <a:pt x="265" y="0"/>
                </a:lnTo>
                <a:lnTo>
                  <a:pt x="852" y="1988"/>
                </a:lnTo>
                <a:lnTo>
                  <a:pt x="0" y="1988"/>
                </a:lnTo>
                <a:lnTo>
                  <a:pt x="0" y="6"/>
                </a:lnTo>
                <a:lnTo>
                  <a:pt x="13" y="6"/>
                </a:lnTo>
                <a:lnTo>
                  <a:pt x="13" y="1976"/>
                </a:lnTo>
                <a:lnTo>
                  <a:pt x="833" y="1976"/>
                </a:lnTo>
                <a:lnTo>
                  <a:pt x="252" y="6"/>
                </a:lnTo>
                <a:lnTo>
                  <a:pt x="2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05200" y="3701880"/>
            <a:ext cx="411480" cy="19080"/>
          </a:xfrm>
          <a:custGeom>
            <a:avLst/>
            <a:gdLst/>
            <a:ahLst/>
            <a:rect l="l" t="t" r="r" b="b"/>
            <a:pathLst>
              <a:path w="259" h="12">
                <a:moveTo>
                  <a:pt x="0" y="6"/>
                </a:moveTo>
                <a:lnTo>
                  <a:pt x="0" y="0"/>
                </a:lnTo>
                <a:lnTo>
                  <a:pt x="259" y="0"/>
                </a:lnTo>
                <a:lnTo>
                  <a:pt x="259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2448000"/>
            <a:ext cx="179640" cy="598320"/>
          </a:xfrm>
          <a:custGeom>
            <a:avLst/>
            <a:gdLst/>
            <a:ahLst/>
            <a:rect l="l" t="t" r="r" b="b"/>
            <a:pathLst>
              <a:path w="114" h="377">
                <a:moveTo>
                  <a:pt x="0" y="0"/>
                </a:moveTo>
                <a:lnTo>
                  <a:pt x="0" y="377"/>
                </a:lnTo>
                <a:lnTo>
                  <a:pt x="114" y="37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05200" y="2448000"/>
            <a:ext cx="201600" cy="608040"/>
          </a:xfrm>
          <a:custGeom>
            <a:avLst/>
            <a:gdLst/>
            <a:ahLst/>
            <a:rect l="l" t="t" r="r" b="b"/>
            <a:pathLst>
              <a:path w="126" h="383">
                <a:moveTo>
                  <a:pt x="6" y="371"/>
                </a:moveTo>
                <a:lnTo>
                  <a:pt x="114" y="371"/>
                </a:lnTo>
                <a:lnTo>
                  <a:pt x="0" y="0"/>
                </a:lnTo>
                <a:lnTo>
                  <a:pt x="13" y="0"/>
                </a:lnTo>
                <a:lnTo>
                  <a:pt x="126" y="383"/>
                </a:lnTo>
                <a:lnTo>
                  <a:pt x="0" y="383"/>
                </a:lnTo>
                <a:lnTo>
                  <a:pt x="0" y="377"/>
                </a:lnTo>
                <a:lnTo>
                  <a:pt x="6" y="3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05200" y="2381400"/>
            <a:ext cx="20880" cy="664920"/>
          </a:xfrm>
          <a:custGeom>
            <a:avLst/>
            <a:gdLst/>
            <a:ahLst/>
            <a:rect l="l" t="t" r="r" b="b"/>
            <a:pathLst>
              <a:path w="13" h="419">
                <a:moveTo>
                  <a:pt x="13" y="42"/>
                </a:moveTo>
                <a:lnTo>
                  <a:pt x="13" y="419"/>
                </a:lnTo>
                <a:lnTo>
                  <a:pt x="0" y="419"/>
                </a:lnTo>
                <a:lnTo>
                  <a:pt x="0" y="0"/>
                </a:lnTo>
                <a:lnTo>
                  <a:pt x="13" y="42"/>
                </a:lnTo>
                <a:lnTo>
                  <a:pt x="13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3046320"/>
            <a:ext cx="400320" cy="674640"/>
          </a:xfrm>
          <a:custGeom>
            <a:avLst/>
            <a:gdLst/>
            <a:ahLst/>
            <a:rect l="l" t="t" r="r" b="b"/>
            <a:pathLst>
              <a:path w="253" h="425">
                <a:moveTo>
                  <a:pt x="0" y="0"/>
                </a:moveTo>
                <a:lnTo>
                  <a:pt x="0" y="425"/>
                </a:lnTo>
                <a:lnTo>
                  <a:pt x="253" y="425"/>
                </a:lnTo>
                <a:lnTo>
                  <a:pt x="1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05200" y="3036960"/>
            <a:ext cx="420840" cy="693720"/>
          </a:xfrm>
          <a:custGeom>
            <a:avLst/>
            <a:gdLst/>
            <a:ahLst/>
            <a:rect l="l" t="t" r="r" b="b"/>
            <a:pathLst>
              <a:path w="265" h="437">
                <a:moveTo>
                  <a:pt x="6" y="425"/>
                </a:moveTo>
                <a:lnTo>
                  <a:pt x="252" y="425"/>
                </a:lnTo>
                <a:lnTo>
                  <a:pt x="120" y="12"/>
                </a:lnTo>
                <a:lnTo>
                  <a:pt x="6" y="12"/>
                </a:lnTo>
                <a:lnTo>
                  <a:pt x="6" y="0"/>
                </a:lnTo>
                <a:lnTo>
                  <a:pt x="126" y="0"/>
                </a:lnTo>
                <a:lnTo>
                  <a:pt x="265" y="437"/>
                </a:lnTo>
                <a:lnTo>
                  <a:pt x="0" y="437"/>
                </a:lnTo>
                <a:lnTo>
                  <a:pt x="0" y="431"/>
                </a:lnTo>
                <a:lnTo>
                  <a:pt x="6" y="4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05200" y="3036960"/>
            <a:ext cx="20880" cy="684000"/>
          </a:xfrm>
          <a:custGeom>
            <a:avLst/>
            <a:gdLst/>
            <a:ahLst/>
            <a:rect l="l" t="t" r="r" b="b"/>
            <a:pathLst>
              <a:path w="13" h="431">
                <a:moveTo>
                  <a:pt x="13" y="6"/>
                </a:moveTo>
                <a:lnTo>
                  <a:pt x="13" y="431"/>
                </a:lnTo>
                <a:lnTo>
                  <a:pt x="0" y="431"/>
                </a:lnTo>
                <a:lnTo>
                  <a:pt x="0" y="0"/>
                </a:lnTo>
                <a:lnTo>
                  <a:pt x="6" y="0"/>
                </a:lnTo>
                <a:lnTo>
                  <a:pt x="1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572000"/>
            <a:ext cx="3124080" cy="17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d4d4d"/>
                </a:solidFill>
                <a:uFillTx/>
                <a:latin typeface="Arial"/>
                <a:ea typeface="ＭＳ Ｐゴシック"/>
              </a:rPr>
              <a:t>TIER 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•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Quality Classroom Instru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•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Supplemental Classroom Interven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4648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     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75-85%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90920" y="4876920"/>
            <a:ext cx="457200" cy="0"/>
          </a:xfrm>
          <a:prstGeom prst="line">
            <a:avLst/>
          </a:prstGeom>
          <a:ln w="7632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3200400"/>
            <a:ext cx="274320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d4d4d"/>
                </a:solidFill>
                <a:uFillTx/>
                <a:latin typeface="Arial"/>
                <a:ea typeface="ＭＳ Ｐゴシック"/>
              </a:rPr>
              <a:t>TIER I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•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Supplemental, small group interven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3429000"/>
            <a:ext cx="380880" cy="0"/>
          </a:xfrm>
          <a:prstGeom prst="line">
            <a:avLst/>
          </a:prstGeom>
          <a:ln w="7632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514600"/>
            <a:ext cx="35053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d4d4d"/>
                </a:solidFill>
                <a:uFillTx/>
                <a:latin typeface="Arial"/>
                <a:ea typeface="ＭＳ Ｐゴシック"/>
              </a:rPr>
              <a:t>TIER II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•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ＭＳ Ｐゴシック"/>
              </a:rPr>
              <a:t>Specific, supplemental, intensive, 1-on-1 interven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429000" y="2743200"/>
            <a:ext cx="457200" cy="0"/>
          </a:xfrm>
          <a:prstGeom prst="line">
            <a:avLst/>
          </a:prstGeom>
          <a:ln w="7632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ase for independent stud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children how to learn instead of what to learn (Marlowe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y to delve dee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, concentration, discipline &amp;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er cannot slide by on the anonymity of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562720" y="2133720"/>
          <a:ext cx="2590560" cy="198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133720"/>
                    <a:ext cx="2590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pendent isn’t really so independ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roactive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teaching instead of re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cepts and skills should be defined (KUD)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exact parameters of their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he types and numbers of 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the form conclusions should ta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formats that may be used to present the results should be clearly spelled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gment the learning sequenc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</a:rPr>
              <a:t>provide a variety of learning activities that may be used to arrive at specified outco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uild in monitoring of lear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Behavioral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ggest ways to study in greater depth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pendent isn’t really so independ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ocative questions or activities to stimulate the learner's creativity such as those described by Phil Schlemmer (1999) for students in grade six and above can be used in concert with a traditional curricul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ents no longer fail; they simply make less progress in the learning sequence (RIT Sc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ch student's special projects should be recorded as part of an educational file or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CC”: Collaboration, Independence, Cooperation,   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PoweredTemplates.com</dc:creator>
  <dc:description/>
  <dc:language>en-US</dc:language>
  <cp:lastModifiedBy>Franklin</cp:lastModifiedBy>
  <cp:lastPrinted>2008-08-25T19:21:40Z</cp:lastPrinted>
  <dcterms:modified xsi:type="dcterms:W3CDTF">2009-06-16T02:33:00Z</dcterms:modified>
  <cp:revision>83</cp:revision>
  <dc:subject/>
  <dc:title>PowerPoint Template</dc:title>
</cp:coreProperties>
</file>